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9B87-3D08-48E9-95DA-EFDF31F3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5F79-6BA1-4203-8C08-4D5B07D2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3662-FA51-4A74-8BA3-399E57F6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9160-8C8F-4945-9E0E-91CE2818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3B7D-0AE1-495C-815B-6123B071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1C35-E02D-48B9-9998-160FFFB1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028C-0130-4244-87C0-B4A1AA55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E964-76D9-4D40-B38F-AE31E2BE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884-1D97-4F99-84D4-1EC6BC0A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8BDA-38D0-4A0B-A235-B151D581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6C83-5D4E-4DC6-B256-337449E1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FDB6-DF3D-4D6E-AF68-E023E88A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984F-319F-4523-8DA5-5BE261985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867280" y="1828800"/>
            <a:ext cx="132408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Sesiunea iunie-iuli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15b2</cp:lastModifiedBy>
  <dcterms:modified xsi:type="dcterms:W3CDTF">2012-06-18T11:05:4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